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D93-7094-4817-BACC-AC7F5EC7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431-4E20-407D-AFA0-EDC5EAA4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937-FAED-47EA-B82A-F05D8EF9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E75-929F-45D9-ACE9-800D6C5A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5696-9234-4D8D-B625-3C8C1B6F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EF70-BAEF-41B9-B6C7-8532EE3E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4C9E-6FD9-48DE-A5AE-D461E230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E0B3-4099-4088-9A6C-30CA0F17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2B1A-144C-40B4-BA46-C92420D7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4BB9-32B4-4D2D-AA07-D09FE034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D658-A45A-4BD2-9552-67077095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950-BEDC-467B-83B4-6824C1B0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0284-3750-4B68-AF5E-42C2BAE4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4C7D-2C46-4305-B3A4-2DC61D84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07F5-FEF8-4C4E-A001-9EC9AB9A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84BA-49C6-4D06-BFAC-27F39B55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B18A-47A3-4D42-A433-0E714491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155-D6C6-4D71-A8BD-527F2B73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564-A9D3-41D5-9AE5-7753BA51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56E-B73F-456E-BB49-6C14B185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399-8774-42D9-9564-126A412E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1B5-B9D2-4469-B753-21ED353E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32A-260F-4A4A-AF57-CD871ADA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C13-5909-4D56-A98C-D154BDF1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5214-BD26-4060-93CC-85C6309E8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106A-0ED2-4940-A533-4C366912C12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earing.com.au/" TargetMode="External"/><Relationship Id="rId2" Type="http://schemas.openxmlformats.org/officeDocument/2006/relationships/hyperlink" Target="http://www.hearing.com.au/" TargetMode="External"/><Relationship Id="rId3" Type="http://schemas.openxmlformats.org/officeDocument/2006/relationships/hyperlink" Target="http://www.hearing.com.au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SITING TEACHER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HOLIC EDUCATION OFFI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UPPORT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Comic Sans MS"/>
              </a:rPr>
              <a:t>TYPES OF HEARING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Comic Sans MS"/>
              </a:rPr>
              <a:t>Sensori-neural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ermanent lo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amage to inner 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Ranges from mild to profound lo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Hearing aids fit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Comic Sans MS"/>
              </a:rPr>
              <a:t>Conductive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Usually 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amage to ear canal, middle ear or outer 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Ranges from mild to moderate lo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Hearing aids are sometimes fitted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Contact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For hearing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earing</a:t>
            </a: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com.au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will provide you with the closest Australian Hearing cent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Or ring 13179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99"/>
                </a:solidFill>
                <a:latin typeface="Tahoma"/>
              </a:rPr>
              <a:t>Visiting Teacher For Vision Impair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Odette Bu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ucStaffDirectoryDetails_imgPhotograph" descr="photograph"/>
          <p:cNvPicPr/>
          <p:nvPr/>
        </p:nvPicPr>
        <p:blipFill>
          <a:blip r:embed="rId1"/>
          <a:stretch/>
        </p:blipFill>
        <p:spPr>
          <a:xfrm>
            <a:off x="3995640" y="2421000"/>
            <a:ext cx="1555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VISION IMPAIR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isual condition must be defined as actual vision impairment and not a learning difficulty involving visual per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istance acuity less the 6/18 when measured with correction and both eyes open OR a visual field reduction to less than 20 degr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provide supporting documentation from a ophthalmologist, which must be written no more than 6 months prior to the referral d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GALLY BLIN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ren who have a vision of 6/60 or less are eligible for funding under LNSLN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may be eligible for extra equipment eg Computer  or software for a computer, reading boards tape recorder. Curtains for the classroom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MVC-004S"/>
          <p:cNvPicPr/>
          <p:nvPr/>
        </p:nvPicPr>
        <p:blipFill>
          <a:blip r:embed="rId1"/>
          <a:srcRect l="34501" t="14000" r="39001" b="0"/>
          <a:stretch/>
        </p:blipFill>
        <p:spPr>
          <a:xfrm>
            <a:off x="2133720" y="2133720"/>
            <a:ext cx="1631880" cy="4190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6248520" y="2209680"/>
            <a:ext cx="22860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/36 vision is only being able to detect these letters on the chart at 6 met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 vision 6/6 is being able to detect this row of letters at 6 met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3580920" y="3276720"/>
            <a:ext cx="259092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3429000" y="4876920"/>
            <a:ext cx="28195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295280" y="9144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sual Acuity :Dista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VA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urther assessment may also be recommended to Educational Vision Assessment Clinic at the Royal Eye and Ear Hospit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VAC team includes a consultant paediatriciac opthalmologist, an educational psychologist and the Education Officer of Vision Impair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Tahoma"/>
              </a:rPr>
              <a:t>Visiting Teachers for Chronic Health and Physical Impair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Monika Davies                  Julie Edward                 Neville Rea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ucStaffDirectoryDetails_imgPhotograph" descr="photograph"/>
          <p:cNvPicPr/>
          <p:nvPr/>
        </p:nvPicPr>
        <p:blipFill>
          <a:blip r:embed="rId1"/>
          <a:stretch/>
        </p:blipFill>
        <p:spPr>
          <a:xfrm>
            <a:off x="5940360" y="2637000"/>
            <a:ext cx="1440000" cy="1763640"/>
          </a:xfrm>
          <a:prstGeom prst="rect">
            <a:avLst/>
          </a:prstGeom>
          <a:ln w="0">
            <a:noFill/>
          </a:ln>
        </p:spPr>
      </p:pic>
      <p:pic>
        <p:nvPicPr>
          <p:cNvPr id="104" name="ucStaffDirectoryDetails_imgPhotograph" descr="photograph"/>
          <p:cNvPicPr/>
          <p:nvPr/>
        </p:nvPicPr>
        <p:blipFill>
          <a:blip r:embed="rId2"/>
          <a:stretch/>
        </p:blipFill>
        <p:spPr>
          <a:xfrm>
            <a:off x="1547640" y="2637000"/>
            <a:ext cx="1440000" cy="1800000"/>
          </a:xfrm>
          <a:prstGeom prst="rect">
            <a:avLst/>
          </a:prstGeom>
          <a:ln w="0">
            <a:noFill/>
          </a:ln>
        </p:spPr>
      </p:pic>
      <p:pic>
        <p:nvPicPr>
          <p:cNvPr id="105" name="ucPersonHeader_imgPhoto" descr="photograph"/>
          <p:cNvPicPr/>
          <p:nvPr/>
        </p:nvPicPr>
        <p:blipFill>
          <a:blip r:embed="rId3"/>
          <a:stretch/>
        </p:blipFill>
        <p:spPr>
          <a:xfrm>
            <a:off x="3924360" y="2708280"/>
            <a:ext cx="1439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AIM OF THE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VISITING TEACHER SERV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provide support to students with disabilities and impairments in Catholic schoo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support may take place in a variety of for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te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istance with curriculum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ultancy to PSG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HRONIC HEALTH IMPAIR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mpairment must be confirmed by a medical specialist in writing at the time of the refer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tudent has been absent from school for a block period in excess of four weeks or medical evidence supports this is likely to occ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tudent’s ongoing absences from school exceed one third of total attendance time or medical evidence supports this is lik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mpairment is the primary cause of the student’s educational difficul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hool refusal is not a factor in the current abs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333399"/>
                </a:solidFill>
                <a:uFillTx/>
                <a:latin typeface="Comic Sans MS"/>
              </a:rPr>
              <a:t>Chronic Health Impair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ancer                  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Leukaemia            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hronic Fatigue     1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rohn’s Disease   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Heart Diseases    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Juvenile arthritis 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Hypermobility      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Epilepsy                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Kidney Transplant 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Cystic Fibrosis     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Kidney disease    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HYSICAL IMPAIR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airment must be confirmed by a medical specialist in writing at the time of refer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mpairment must have a significant impact on the student’s educational prog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333399"/>
                </a:solidFill>
                <a:uFillTx/>
                <a:latin typeface="Comic Sans MS"/>
              </a:rPr>
              <a:t>Physical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xamples of Physical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erebral Palsy  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uscular Dystroph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pina Bifida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cquired Brain Injury 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Osteo Imperfecta 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Visiting Teachers of Hearing Impair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4149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Di Austin            Anne Casey            Colleen Dal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ucStaffDirectoryDetails_imgPhotograph" descr="photograph"/>
          <p:cNvPicPr/>
          <p:nvPr/>
        </p:nvPicPr>
        <p:blipFill>
          <a:blip r:embed="rId1"/>
          <a:stretch/>
        </p:blipFill>
        <p:spPr>
          <a:xfrm>
            <a:off x="2195640" y="3141720"/>
            <a:ext cx="1152360" cy="1439640"/>
          </a:xfrm>
          <a:prstGeom prst="rect">
            <a:avLst/>
          </a:prstGeom>
          <a:ln w="0">
            <a:noFill/>
          </a:ln>
        </p:spPr>
      </p:pic>
      <p:pic>
        <p:nvPicPr>
          <p:cNvPr id="119" name="ucStaffDirectoryDetails_imgPhotograph" descr="photograph"/>
          <p:cNvPicPr/>
          <p:nvPr/>
        </p:nvPicPr>
        <p:blipFill>
          <a:blip r:embed="rId2"/>
          <a:stretch/>
        </p:blipFill>
        <p:spPr>
          <a:xfrm>
            <a:off x="3708360" y="3141720"/>
            <a:ext cx="1174680" cy="1439640"/>
          </a:xfrm>
          <a:prstGeom prst="rect">
            <a:avLst/>
          </a:prstGeom>
          <a:ln w="0">
            <a:noFill/>
          </a:ln>
        </p:spPr>
      </p:pic>
      <p:pic>
        <p:nvPicPr>
          <p:cNvPr id="120" name="ucStaffDirectoryDetails_imgPhotograph" descr="photograph"/>
          <p:cNvPicPr/>
          <p:nvPr/>
        </p:nvPicPr>
        <p:blipFill>
          <a:blip r:embed="rId3"/>
          <a:stretch/>
        </p:blipFill>
        <p:spPr>
          <a:xfrm>
            <a:off x="5508720" y="3068640"/>
            <a:ext cx="1174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HEARING IMPAIR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udiogram of the student’s hearing must be provided with the referral form.  Free assessments can be provided by Australian Hearing Ser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must be diagnosed with a permanent hearing loss - either sensori-neural, conductive or unilate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rvice provided will be dependent on the impact the hearing loss has on the student’s educational prog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0:08:39Z</dcterms:created>
  <dc:creator> </dc:creator>
  <dc:description/>
  <dc:language>en-US</dc:language>
  <cp:lastModifiedBy>JEdward</cp:lastModifiedBy>
  <dcterms:modified xsi:type="dcterms:W3CDTF">2011-07-20T04:35:37Z</dcterms:modified>
  <cp:revision>18</cp:revision>
  <dc:subject/>
  <dc:title>VISITING TEACHER SERVICE</dc:title>
</cp:coreProperties>
</file>